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049-7827-4C2D-896E-D2CB92E3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22A-838B-4C95-96F3-34FCED40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616-A26A-489D-814F-1A62D62D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620-5025-497D-A38A-744C589A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C12-8689-430E-8FA3-F85509B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2A2-0D33-445C-8FAC-B1878587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D07-9923-4AFF-8D4D-9563BB7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7BE-A8FC-4266-B52E-23B61C2A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91B-A4A4-42F7-BFB6-A1817A6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39E-9BB3-473F-B029-CC4C82BF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7F2-32FF-4814-8100-7C34BCF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120-0930-42A4-BF51-0A25A8A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65292875-4421-43EF-AE56-76B059FDA511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511488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January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81120"/>
            <a:ext cx="695340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ome basics about ‘MEP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EC7-C354-4A80-B506-B3273DCE5F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059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 KIC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BE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RAFT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-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L ROADMA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is defin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irement Release - Design freez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mplementation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Synchronization Integration Point (S 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P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"Integration Point (IP) ""n"""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1 Module Operable in Basic Func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Functional Sample (B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2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ested Prototype Device B1+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2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ales Rele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 for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art - Release for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Approval Star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K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turity of Key Applicatio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3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e-Series Release B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livery Start - limited release for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3/S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Unlimited Release for Market / Development Project finish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 ALPH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TART RAMP-DOW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4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MP DOWN STRATEGY FIX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F/V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STOP, SALES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15271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5 SERVICE STOP, PRODUCT ACTIVITIES FINALIZ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C3B-EFBA-4CAC-B611-86C660991A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Checkpoints statistic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600" y="1690560"/>
            <a:ext cx="8923320" cy="21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554-66B3-4625-A7F6-ACAB0973903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History IPO/MEP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4680" y="764640"/>
            <a:ext cx="8037720" cy="25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d to late 90s: IPO (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I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tegrierte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zess 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dnu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scrib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rganizational framework / Team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cess / task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Has accompanying 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milestone checklist: MEP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(Meilensteinergebnisse in der Produktentwicklung / Milestone Execution Plan)</a:t>
            </a:r>
            <a:br>
              <a:rPr sz="2000"/>
            </a:b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in purpose: Synchronization between involved function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920" y="3328920"/>
          <a:ext cx="691992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3328920"/>
                    <a:ext cx="69199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49A-4677-4598-A579-3833F9C8690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oda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040" y="947520"/>
            <a:ext cx="8477280" cy="53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PO almost unknown. MEP is seen as ‘The Process’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n parallel: ‘PLM-picture’, organization and role description on the intran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s were added: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k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M</a:t>
            </a:r>
            <a:r>
              <a:rPr b="0" lang="en-US" sz="2400" spc="-1" strike="noStrike">
                <a:solidFill>
                  <a:srgbClr val="3a0e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, PS, DS, AS, MKA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rom MEP 6-&gt;MEP 7: increased number of checkpoi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ome complaints: too complex / too much / too vague / too imprecise / un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Ownership of MEP changed frequently. Today: IT PL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hecklist responsible assigned per func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steps: R&amp;D-driven (+TPM) (E03/2006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of product classes I-IV. R&amp;D not driving entire MEP adaptatio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daptation to new Org (espc. TPM -&gt; roles TPM / TPM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2B1-A184-46BF-9EFD-6F54C1D16008}" type="slidenum">
              <a:t>3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Pros and cons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11160"/>
            <a:ext cx="38815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Guideline through projec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omprehensive documentation (also for newcomers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greement between all project play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o need for re-inventing the whee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flects ‘best practices’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Open for chang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62400" y="968400"/>
            <a:ext cx="46418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is impl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ailoring-option almost unknown/not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oo complex, big, .., unclear compl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ording (e.g. requ./feature, fixed/final/rele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ix of generic/quantitativ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Word document -&gt; better Excel or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igning of milest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cedure: Everybody wants to sign….. No clear and simple responsib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echnology: Paper/Fax, manu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33960" y="1011240"/>
            <a:ext cx="0" cy="479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A89-7B69-464C-B2C9-04DB2E726E48}" type="slidenum">
              <a:t>4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me figur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58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ast release V 7.01, 07/2005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(160 pages, herder: 8p, ‘process’, teams, responsibilities: 12p, checkpoints:113p, MS declarations 27p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0 disciplines/functions/teams (8 are R&amp;D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3 milestones, 19 immediately relevant for R&amp;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0-M3/S4 (16MS): ~1800 checkpoints for all disciplin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check items M0-M3/S4: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(653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(peak at M0, M1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W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(343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8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72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5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lnSpc>
                <a:spcPct val="8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64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chanic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71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oftwar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3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3a0e66"/>
              </a:buClr>
              <a:buFont typeface="Minion"/>
              <a:buChar char="–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 Test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5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457200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ject Management (~TPM-R&amp;D)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21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A3C-C89A-4348-8F0A-147474FE5F8F}" type="slidenum">
              <a:t>5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ToDo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20116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duct class adaptation (running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lected ‘Cons’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daptation to agile develop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HE&lt;-&gt;PHA process synchron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537-066E-4B69-A02F-3BD6E21EF1C8}" type="slidenum">
              <a:t>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Questions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80028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3E8-F38E-40FA-9D60-2387CB91CA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32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758-3575-4932-9B6D-14194ABC22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Functions/Disciplines/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oadmap Defini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Financi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finition and Industrial Desig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pply Chain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Material Quality and Technical Capabi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Quality Management: Product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ake Mark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stomer C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curement Enginee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ion Technolo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Develop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gital and mixed signal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MC/Antenn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ayout/Production Data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Mechan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adio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ignal Processing (SP) 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oftwa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ystem Te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E81-2C6E-4685-AEFE-D86CBF95D4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Uwe Schmitz</dc:creator>
  <dc:description/>
  <dc:language>en-US</dc:language>
  <cp:lastModifiedBy>SchmitzU</cp:lastModifiedBy>
  <dcterms:modified xsi:type="dcterms:W3CDTF">2006-01-30T08:34:47Z</dcterms:modified>
  <cp:revision>365</cp:revision>
  <dc:subject/>
  <dc:title>MEP intro</dc:title>
</cp:coreProperties>
</file>